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9A4-D683-4D82-A113-AAEC1BDE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717-D24B-403F-84E2-12601260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8EA-CA0B-4D3A-BF7B-7E6C880A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FF1-CE7B-4850-B8D6-E2B524BC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664B-C5F6-4AD8-9C7D-EB578A1C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8D73-59E3-459E-B8B1-03EBA31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1227-247A-4161-837F-3D163CB9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0265-07DE-4425-9D40-5010381E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E078-99A7-421B-9914-F563D796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0DB1-BFC1-44FE-9B66-0BC47991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BCB-D545-4CE7-A9E4-3693E98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947-6343-4983-BE50-F58DB6EB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E334-20BE-4791-992B-C39416DD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A66-A752-4F49-AB42-41FF286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612E-6424-4031-BFF6-911F9B8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F150-237F-4868-A1C5-40CD97BE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302F-3B40-4FB0-8CF4-80950FD8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008-8202-487B-A2A5-40D5441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664-D53E-4CD0-9E1F-849C42EC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03A-D627-4A4B-AF6A-F0B33BAB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65B-67E5-4CE8-A556-66BA1EFF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8DE-B925-4F4A-A951-681DD7A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50C-10E4-4EAD-93F9-F25CCAC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B4C-B232-4543-8948-728D3EC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673F-E771-46AD-B58F-443AE77533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CB26-A93A-4026-B285-C87B1FD325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 – Reading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lonial Slavery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93-10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2130120"/>
            <a:ext cx="66294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lav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ocial stra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  <a:ea typeface="Times New Roman"/>
              </a:rPr>
              <a:t>Slavery in North America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  <a:ea typeface="Times New Roman"/>
              </a:rPr>
              <a:t>Pages 101-112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720" y="2133360"/>
            <a:ext cx="67024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rth, South,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 – America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s of Resistance and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lavery and Empire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113-12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slavery in the Glob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al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tra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utary Neg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vs.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opulation Growth and Colonial Society Pages 146-150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of Colonia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ethnic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vs.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al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tra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lonial Religion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151-15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Deno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gationalists vs. Ang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Awak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-Way Cov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athan Edwards / George White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Exploration – Pages 60-64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46280" y="1600200"/>
            <a:ext cx="539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es / Impacts of European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 or Vill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English America – Pages 64-70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for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primogeniture and its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 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, structure, lasting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town – The Real Story of Pocaho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 with the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Nicotine’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ny of 16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to Virgi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Indentured Servants &amp; Chesapeake Region Pages 64-70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61960" y="2281320"/>
            <a:ext cx="64767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ntured Serv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righ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uritans and Pilgrims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Pages 70-76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320" y="2281320"/>
            <a:ext cx="66294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, Calvinism, Puritans, Separatists, and Pilgr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, Who,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 May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Bay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Winth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England Life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70-76 (Part II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in New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, family structure, women’s rights and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role of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of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with Ind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to Puritan faith an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ligious Dissent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70-76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rt II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680" y="2971800"/>
            <a:ext cx="64771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Anne Hutch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nomia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er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rom other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roprietary Colonies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ges 76-83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320" y="2130120"/>
            <a:ext cx="66294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Carolina – economy &amp;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Carolina – why sepa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and end of New Neth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Jersey &amp; Dela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kers –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Conflict and War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Pages 76-83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680" y="21337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of English expansi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on’s Rebe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gland Con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ion of New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of Sir Edmund And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f the Glorious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9:34:08Z</dcterms:created>
  <dc:creator>School District U46</dc:creator>
  <dc:description/>
  <dc:language>en-US</dc:language>
  <cp:lastModifiedBy>School District U46</cp:lastModifiedBy>
  <dcterms:modified xsi:type="dcterms:W3CDTF">2009-08-25T12:30:21Z</dcterms:modified>
  <cp:revision>4</cp:revision>
  <dc:subject/>
  <dc:title>APUSH</dc:title>
</cp:coreProperties>
</file>